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26733"/>
        <c:axId val="12633777"/>
      </c:barChart>
      <c:catAx>
        <c:axId val="21726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33777"/>
        <c:crosses val="autoZero"/>
        <c:auto val="1"/>
        <c:lblAlgn val="ctr"/>
        <c:lblOffset val="100"/>
        <c:noMultiLvlLbl val="0"/>
      </c:catAx>
      <c:valAx>
        <c:axId val="12633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26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13C-D51A-422F-A681-3DBCEB58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9A7-1D37-43C5-8AE8-92CAEEBD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433-0B6E-4256-8BF6-A782431B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B75-35B0-4BFB-B80D-C338CA96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4BC-0A79-4C7D-895B-429AECC5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EFD-0F45-4F3F-9A6D-BA4FA769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E80-5E1B-40DA-9EBE-F6FCEDEF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B10-75D9-4BF1-9D0B-8D257963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838-0DDA-4C0F-AD54-08AF8CB9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575-B64D-4368-9BED-C6DA1F0A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1F5-4010-48EA-9AB5-9FE69C9E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2CD-2507-449C-9445-CC60B4F1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2C511-78D7-4976-B44A-473387856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