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8934"/>
        <c:axId val="21517049"/>
      </c:barChart>
      <c:catAx>
        <c:axId val="75989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17049"/>
        <c:crosses val="autoZero"/>
        <c:auto val="1"/>
        <c:lblAlgn val="ctr"/>
        <c:lblOffset val="100"/>
        <c:noMultiLvlLbl val="0"/>
      </c:catAx>
      <c:valAx>
        <c:axId val="21517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89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132-B476-4400-8411-242944E6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091-51D7-4BF9-AB6C-BDB5B689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0C68-E9AA-482B-91BD-37E87D7C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57F-B89C-4487-BBCB-2ED1AA22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33B-5FEA-463D-BF78-477938D1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023-14A6-4669-BC7A-441256C9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69E-465C-438E-A16C-BC16DE5B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229-F900-41E3-8025-2C674DDB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F4B-DF75-485C-8DA7-5A1367B9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6B7-7D26-488B-9E6C-81607ED4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2BD7-8109-4B5D-8B44-E92CC284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49E-42CA-464E-818B-1795BE2F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E6835-5E4B-4AAF-9710-4BB446F641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