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86544"/>
        <c:axId val="15065257"/>
      </c:barChart>
      <c:catAx>
        <c:axId val="53086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65257"/>
        <c:crosses val="autoZero"/>
        <c:auto val="1"/>
        <c:lblAlgn val="ctr"/>
        <c:lblOffset val="100"/>
        <c:noMultiLvlLbl val="0"/>
      </c:catAx>
      <c:valAx>
        <c:axId val="15065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86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568-E301-4974-9CED-010606DC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B40-F777-432A-AA55-322E38F6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20D-3156-42B7-A6CB-C68A03B9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5ED5-524D-4BC8-A8B0-59A5B7FA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E7D-EFE0-4E85-9EBF-BCEEF802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F1E-1D85-4A94-BD73-07344DAD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E0D-2315-4331-8811-97FFE6F1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F3A-9FE2-439F-8890-7D1650AC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50C-2C23-4D47-BE2F-1DFC4230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35F-71DB-4093-808D-4A015222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E11-6A56-4325-A796-91BF3030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3EE-342A-4F26-BFBC-78036E5E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A4B0D-DFD5-4A06-9B8A-FBD1851735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