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01351"/>
        <c:axId val="9851677"/>
      </c:barChart>
      <c:catAx>
        <c:axId val="67001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1677"/>
        <c:crosses val="autoZero"/>
        <c:auto val="1"/>
        <c:lblAlgn val="ctr"/>
        <c:lblOffset val="100"/>
        <c:noMultiLvlLbl val="0"/>
      </c:catAx>
      <c:valAx>
        <c:axId val="9851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01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B8F-6D6E-4DB3-B576-FB838460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0DC-436F-417A-9F14-B42016FB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064-647D-4ECE-8B41-46F7D48C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6A5-1B28-44A4-A03B-804E0CF1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9AF-AF43-493D-A3C5-A3D800B8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E89-1B07-4D59-B737-8C40A7DC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252-ADF9-4802-9ADA-B41ACE6A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F38-C522-4BD0-93C9-61FF3F23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D05-6A87-45E2-A0DF-D1076B38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F36-AFA9-4B9A-9786-5BEB8583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29F-28B0-47BF-BC83-4E00517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94E-2F72-4046-A0B3-E22376E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E0A61-D1A7-4BD7-B4D2-034D9F2BD1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