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4951"/>
        <c:axId val="98595177"/>
      </c:barChart>
      <c:catAx>
        <c:axId val="13134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5177"/>
        <c:crosses val="autoZero"/>
        <c:auto val="1"/>
        <c:lblAlgn val="ctr"/>
        <c:lblOffset val="100"/>
        <c:noMultiLvlLbl val="0"/>
      </c:catAx>
      <c:valAx>
        <c:axId val="98595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4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5DC-E846-46C3-AA55-26E0369A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BB5-0A45-4332-8CBB-FF9AF4F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EBD-A49F-4E2F-A21B-6B477F51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15A-E8D8-4C20-915B-37AECF24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7AE-D991-415F-B8C3-C7342D6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862-C687-4DB4-9054-F6F7222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BA6-A8AA-4D97-9E8C-F0ABD2C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937-448D-4111-98D1-59A31FE1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8AC-F623-4E38-A2D9-458F382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F87-5103-4ACF-B208-AFE0B1D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11B-596E-402C-B035-DF8F035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D12-0DD1-4BE9-A379-462AA84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749B-A3A8-4E31-861B-0C65A4E28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