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09113"/>
        <c:axId val="936148"/>
      </c:barChart>
      <c:catAx>
        <c:axId val="41409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48"/>
        <c:crosses val="autoZero"/>
        <c:auto val="1"/>
        <c:lblAlgn val="ctr"/>
        <c:lblOffset val="100"/>
        <c:noMultiLvlLbl val="0"/>
      </c:catAx>
      <c:valAx>
        <c:axId val="936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9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B96-2156-44F2-94AB-8595B78A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46-6582-4929-8B5D-34339A8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AEB-570D-455E-B18F-6B1B2F68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204-96FF-48FE-ABC3-2C07FDFD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637-51E5-4AC3-B13A-EEAF5FCB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48F-9185-4ADB-87A1-19295E59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0E5-6923-4EC0-A312-CE05D89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F95-E737-4775-9BB2-B8A5316F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507-DAA3-4E31-A703-D4BD5C21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C01-8F9E-44E1-881E-4546CE3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175-8FC9-49C7-B4A5-91BFDBB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143-6F95-4D65-9608-140F00F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C1217-8DAF-4A66-A986-2A071B174B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