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96441"/>
        <c:axId val="24140592"/>
      </c:barChart>
      <c:catAx>
        <c:axId val="56296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40592"/>
        <c:crosses val="autoZero"/>
        <c:auto val="1"/>
        <c:lblAlgn val="ctr"/>
        <c:lblOffset val="100"/>
        <c:noMultiLvlLbl val="0"/>
      </c:catAx>
      <c:valAx>
        <c:axId val="24140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96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4F5-7877-4D12-8173-D2C87F19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25B-4845-4478-84D4-3584D87D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2FE-9946-4DB6-B7A6-1890AB24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8CB8-8BDF-4F86-80BF-CECD5905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2EC-11C9-4962-930B-F33B17AD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75A-954A-469A-BFBD-A6D580F3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EB5-0960-4591-889B-88013BA1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0F6-6E96-489D-A8AC-88B700DE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867-8B24-4DAC-85DE-A3E45003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1D2-D082-4C67-A7EB-233FE8AA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290-81BE-421B-8D82-024AD109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A29-38E3-4681-8EBD-6F4FF348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EF919-B61B-4C22-910A-4DE6C689C1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