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67411"/>
        <c:axId val="52187033"/>
      </c:barChart>
      <c:catAx>
        <c:axId val="98767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87033"/>
        <c:crosses val="autoZero"/>
        <c:auto val="1"/>
        <c:lblAlgn val="ctr"/>
        <c:lblOffset val="100"/>
        <c:noMultiLvlLbl val="0"/>
      </c:catAx>
      <c:valAx>
        <c:axId val="52187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67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0A6-D1C5-4C14-B809-E752F9FF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C0E-A3EA-43AA-8354-F3D14D39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F3E-99AC-4822-AF5A-4083276F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903-2669-4D2D-9B84-A1AD68D2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48F-BD82-45E3-98D0-48DB231A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04B-20E2-40FF-8036-C56D9FED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8AD-821D-42A2-9F87-595AD55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BC3-A1DF-4EE2-89BA-1C3F89D8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C79-AF52-4F69-ABDC-19CA008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DB8-56D4-4CE8-91FB-FA110C3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E45-50A4-4B72-9667-FBF2CC7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810-CFAB-4CF5-95EA-3FC4129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61D5B-A9CB-44DF-9A06-39833C5C76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