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580102"/>
        <c:axId val="48296391"/>
      </c:barChart>
      <c:catAx>
        <c:axId val="445801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96391"/>
        <c:crosses val="autoZero"/>
        <c:auto val="1"/>
        <c:lblAlgn val="ctr"/>
        <c:lblOffset val="100"/>
        <c:noMultiLvlLbl val="0"/>
      </c:catAx>
      <c:valAx>
        <c:axId val="482963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801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41B-E339-419E-9262-66C6B3D1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969B-0B11-4C2A-9BDB-672B684E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4EC-1A99-4856-AC4C-313E0CDF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3EC-722E-46FD-A12C-5024038B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6E22-FA8F-43B5-ADF6-77A4151A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15A8-7FC1-4B43-B7C6-8065FB04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B69-140F-4085-97A0-6B9D9E2C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898-2D8E-46F8-A0B3-084FED85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8CA8-0429-4E82-946D-3BA94E76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9DD-C3D7-42FC-98D2-31D6AEB7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66B-586F-43EE-9D7B-DCBF283D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805D-D6F6-4C6E-BBD7-8ABF393F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6E3A3-1CE8-44FA-B90B-8D79AA95BF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