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16841"/>
        <c:axId val="71179355"/>
      </c:barChart>
      <c:catAx>
        <c:axId val="17116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79355"/>
        <c:crosses val="autoZero"/>
        <c:auto val="1"/>
        <c:lblAlgn val="ctr"/>
        <c:lblOffset val="100"/>
        <c:noMultiLvlLbl val="0"/>
      </c:catAx>
      <c:valAx>
        <c:axId val="71179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16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EB7-5C51-4859-85CE-3599212E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D5B-DDE7-4CD3-8BD4-9121BA6E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929-9E7F-442A-AD08-78151CDB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44D-D7ED-47FF-B8D8-995295E5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E38-6DC1-4B35-8731-3D748835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9C6-73BA-4A5C-B0D2-825B9F12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D85-890A-47F1-B029-1AB65369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37F-D4AB-47F7-9399-0435C379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6677-2FDC-4565-B6C6-91CCEC6C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89F-F30E-4CE2-A7B6-F421967E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91A-1763-40F3-8AE5-D9056376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B21-11EC-4081-A08D-AD493A60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7D4DC-AC71-439C-A7D9-EBBBC196AB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