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93536"/>
        <c:axId val="31593272"/>
      </c:barChart>
      <c:catAx>
        <c:axId val="30593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93272"/>
        <c:crosses val="autoZero"/>
        <c:auto val="1"/>
        <c:lblAlgn val="ctr"/>
        <c:lblOffset val="100"/>
        <c:noMultiLvlLbl val="0"/>
      </c:catAx>
      <c:valAx>
        <c:axId val="31593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93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D77-A833-42BA-82EC-F6445345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C72-52CE-4691-9E81-56A5AA9E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69E-0DA7-4FDF-8FE2-CAAAD6DB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9FB-4CBE-4DDF-B036-D94C7CE5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ECE-42F2-429B-8FAD-D6D52B0B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539-3C63-4166-B084-8381F5F5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641-C052-4BCF-9B2E-79D0AF2C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A13-56DC-4457-A1D9-14FEE4F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8BD-E033-4E1A-AE85-112D81CA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703-8771-463B-821E-14656AA5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274-85C9-4E81-963F-DB4D2A72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F3E-3775-4CF4-81EA-1ADE6E5E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724BE-F2F5-48C5-BE38-1F05FC4805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