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59160"/>
        <c:axId val="9530618"/>
      </c:barChart>
      <c:catAx>
        <c:axId val="45759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0618"/>
        <c:crosses val="autoZero"/>
        <c:auto val="1"/>
        <c:lblAlgn val="ctr"/>
        <c:lblOffset val="100"/>
        <c:noMultiLvlLbl val="0"/>
      </c:catAx>
      <c:valAx>
        <c:axId val="9530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59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B8A-0BE2-496F-800C-1EAECC8A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B27-E32C-4ED4-B75E-7CAC269B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E41-F589-4921-A769-B5F68B8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C0F-AD43-4A69-8CE2-AA5E18F3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01A-8622-4C5D-B466-8075FE1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5F8-FFF3-453B-A7B5-77A4E03A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126-7B8A-4A5C-87EE-E66A271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739-25D0-44C5-A5FC-62A16124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0B8-4D20-4771-A729-A365F1C7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1A7-DD1B-43F2-BB68-9ED58A2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A5E-FB42-4156-ABE4-AFAF766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633-C282-4549-804E-CAFA523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7B03D-A6FD-4974-8DB8-87F2DB5236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