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05549"/>
        <c:axId val="51727463"/>
      </c:barChart>
      <c:catAx>
        <c:axId val="74405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27463"/>
        <c:crosses val="autoZero"/>
        <c:auto val="1"/>
        <c:lblAlgn val="ctr"/>
        <c:lblOffset val="100"/>
        <c:noMultiLvlLbl val="0"/>
      </c:catAx>
      <c:valAx>
        <c:axId val="51727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05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85E-6678-49AE-A4B0-4A1918BE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AB2-F8FE-4321-9A51-449ADD95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498-B971-41BB-BB9E-581E6B77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E07-9EAE-4952-896E-300F39E0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3E3-7446-4371-B257-C7BD6CAE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CE5-4215-4632-BF68-3D9C3A8D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B8D-FA6F-4DB9-A9C7-D6E4579F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083-138A-444B-A84A-C39E2701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7FD-C2FF-445A-9A76-D18BD0CF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709-08B6-40B0-9C4D-3C6DA4C2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0D5-256C-46CC-A4BE-3999B702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B36-08C2-4E9A-BD65-29390426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864B-F5B8-404B-98D9-7F32243A22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