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46985"/>
        <c:axId val="6143518"/>
      </c:barChart>
      <c:catAx>
        <c:axId val="849469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518"/>
        <c:crosses val="autoZero"/>
        <c:auto val="1"/>
        <c:lblAlgn val="ctr"/>
        <c:lblOffset val="100"/>
        <c:noMultiLvlLbl val="0"/>
      </c:catAx>
      <c:valAx>
        <c:axId val="6143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469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B4E-9B99-448A-8410-5EC82F88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8EB-7D78-4B59-A6DA-A1EEDC8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6F7-1B8B-4923-8F5B-2F324669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034-9C3D-40FF-A201-56F1FC7B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5E2-C03F-4BF0-9D58-127D4691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565-B962-4658-9ED7-1CF8355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45C-2E16-45FC-ACD7-1AD191FF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494-2209-4794-9140-3624373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CBF-B2F9-4F4B-A7A2-066C6917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2BC-AF6F-4458-98FC-B24B79A2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7CC-8A1D-441E-8D6E-BCB9671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950-C4C0-4E17-8372-B30E5F4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B0EB1-F6B6-4167-A41B-C48D71400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