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28332"/>
        <c:axId val="53104544"/>
      </c:barChart>
      <c:catAx>
        <c:axId val="82283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104544"/>
        <c:crosses val="autoZero"/>
        <c:auto val="1"/>
        <c:lblAlgn val="ctr"/>
        <c:lblOffset val="100"/>
        <c:noMultiLvlLbl val="0"/>
      </c:catAx>
      <c:valAx>
        <c:axId val="531045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283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6B05-1830-44DE-9E68-34F0CA0CE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2508-0D62-4E2B-8BB9-B2358415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EB18-8C71-48DD-863D-D3E6628E1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E92E-055B-40CB-944B-3CB0FB077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9670-8AF6-4ADA-B419-348B4FE0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BBCC-6995-417B-9014-3862CB94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E65B-7325-406B-B8B2-9053E28E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F294-5DE9-4663-86E9-80B501CA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E040-7760-49A5-B96C-8E49978D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FA3F-410B-4E5E-B457-23F918BB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C11A-996B-4CFC-A272-F77CE9EE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231F-CFF8-45FF-A85E-B60AD5F1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94FD2-A03A-4D7C-B5D7-5554180973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