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18567"/>
        <c:axId val="53731371"/>
      </c:barChart>
      <c:catAx>
        <c:axId val="35018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31371"/>
        <c:crosses val="autoZero"/>
        <c:auto val="1"/>
        <c:lblAlgn val="ctr"/>
        <c:lblOffset val="100"/>
        <c:noMultiLvlLbl val="0"/>
      </c:catAx>
      <c:valAx>
        <c:axId val="53731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18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F90-FF06-44D5-9245-69999463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040-D0D0-4BB6-8759-5FE387E5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90D-42C3-401B-BDDA-EB6D181E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138-5B09-433E-BE11-120392C4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E81-2C76-454C-915A-E44D31A0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F97-427D-4078-BE43-878058E5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0DD-0A53-4A68-BE7C-98A07DF9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B24-1481-4AB8-BB7D-3F6806CB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0BA-7120-4EA6-AE28-2060A2A4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5B3-C316-481F-99D7-9523B82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40C-A42B-40F5-A49F-C31B7880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64E-9C3D-43C0-AEE6-88323A98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C9D2C-5679-4F88-BC6C-18FAC2248B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