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38050"/>
        <c:axId val="28161897"/>
      </c:barChart>
      <c:catAx>
        <c:axId val="68438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61897"/>
        <c:crosses val="autoZero"/>
        <c:auto val="1"/>
        <c:lblAlgn val="ctr"/>
        <c:lblOffset val="100"/>
        <c:noMultiLvlLbl val="0"/>
      </c:catAx>
      <c:valAx>
        <c:axId val="28161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8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9FE-E1D3-4F6C-B875-4E4C2557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00F-C825-4A92-98BB-A3EEBBC2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72E-2A49-4648-8910-9809954F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DA3-0054-4BF7-A867-53F89AC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911-A6AD-4AB6-A2E5-46566DE0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D5C-0D48-4D2B-8F64-4A599A3B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23D-201C-4062-958B-418D4EFC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E0D-2914-42CD-8665-F95ED292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C0B-01CD-4E0F-B594-CB063A7A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54E-396C-49C2-BCAB-BDD1F9D2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285-F10C-48A1-AFEE-4B19C1C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56A-0993-40E8-A0D8-2B1D6CC8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60441-A539-4DD7-B0A3-30B181B1F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